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689F-FD05-47C5-8FF6-1E42E8A33E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7E22-FB0F-4648-875D-E6977332A6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C44-D8FD-408D-AB74-8992DDAB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8D7C-6941-4647-8447-372DC94B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9A3-2377-4B31-B8A5-4DCF2BDD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F1E-D228-419A-B1B3-6EFC5885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483-83A0-460C-8351-39A34348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6EC-984F-4213-8630-6668FEBD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DE7-8ACF-4A82-8D47-7AA487B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2F6-A438-4B49-A177-1D4BE7F0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103-0445-4B78-B483-304D2E80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F12-64F7-476C-9F43-2BFD1D19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A6B-3DD2-4351-9EFC-27E612B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E53-3919-46CE-BBEB-48FA0F3C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FD2E-7328-47A1-AF76-5031085E4448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Stopping_food_waste,_one_picnic_at_a_time" TargetMode="External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133200" y="36360"/>
            <a:ext cx="953928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280" y="549360"/>
            <a:ext cx="82090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Read the article to check your answer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6b9f25"/>
                </a:solidFill>
                <a:uFillTx/>
                <a:latin typeface="Book Antiqua"/>
                <a:hlinkClick r:id="rId1"/>
              </a:rPr>
              <a:t>http://eewiki.newint.org/index.php/Stopping_food_waste,_one_picnic_at_a_tim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And find out about the movement: </a:t>
            </a:r>
            <a:r>
              <a:rPr b="1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39067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5-26T19:15:58Z</dcterms:modified>
  <cp:revision>12</cp:revision>
  <dc:subject/>
  <dc:title>How to stop food waste</dc:title>
</cp:coreProperties>
</file>